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13.wmf" ContentType="image/x-wmf"/>
  <Override PartName="/ppt/media/image5.png" ContentType="image/png"/>
  <Override PartName="/ppt/media/image6.wmf" ContentType="image/x-wmf"/>
  <Override PartName="/ppt/media/image31.wmf" ContentType="image/x-wmf"/>
  <Override PartName="/ppt/media/image11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2.wmf" ContentType="image/x-wmf"/>
  <Override PartName="/ppt/media/image12.png" ContentType="image/png"/>
  <Override PartName="/ppt/media/image33.wmf" ContentType="image/x-wmf"/>
  <Override PartName="/ppt/media/image34.wmf" ContentType="image/x-wmf"/>
  <Override PartName="/ppt/media/image7.png" ContentType="image/png"/>
  <Override PartName="/ppt/media/image15.wmf" ContentType="image/x-wmf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10E-1906-4284-8F63-D75D6695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E0F-E98C-4D5A-99BE-441C5300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CA0561-3E20-44A0-B9E3-6696C2A4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5A3168-3407-482F-B1B0-1DFC54C8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5ED55D-2691-4EDF-A0C1-922EC82F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19F1A1-B58D-453E-8ACD-2C6C8134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6580EE-5CDB-4E4D-877F-343AE332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306962-228C-49D2-B5B5-E2B98F9F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DF6579-5FC9-4198-8F5F-0B6423C9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74079B-A3DB-414E-B3FB-C8B71803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A957D4-C249-4924-9942-18BDE30A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CA6B2-68BD-4D32-A7C1-489B48F3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B41-624C-43E3-8259-B631FC58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14703-BDFE-41CD-A6E3-ACDA35D7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6D073-9659-4C24-A53A-A0AA9EB7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08719-706B-4721-8880-16791F34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089B7-3137-43AA-AC0A-0FF044D2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96910-25B6-48E6-BBCA-5663AF4E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AE6E0-145C-4F2F-8DDA-ADE7CA19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C4939-6E14-4BB9-BF4E-9CA66ABB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7E1C6-82FA-4B9F-93AD-54BA166B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0E72A-E0F9-413D-A6A7-22319268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C8461-4407-44A5-919E-1CB7B58E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ADA-0815-4BAD-B24B-7B162827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2A979-7A66-45AB-97DB-0A1A344A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58668-A911-4302-8778-DB6B271A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8F898-2502-4260-9CE3-1E55850F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663C6-3E8A-4E87-A4E5-F898E541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CF56C-9F7A-4E4A-A1E1-140C9D7F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DABB7-6B10-4BB1-9585-511B0C57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79D84-4A85-4028-9FE6-DD11E63F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E9EB6-8ACB-46B2-B4AB-4810237D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FA429-DAF6-4A99-9805-BDA16DBA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C6A2F-388D-4152-8E4B-FAA9B356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EEAB-86A0-4DCA-833B-CBA5FA9F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35017-D323-4457-A03D-4326437A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6F2DC-742B-49F5-8D03-6AB10249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50883-C6DA-478B-AF36-AD949041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68616-18E6-42B8-B0AE-658CDEFE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E3E4C-8767-43B5-BA6B-68E4A5F6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0CDB3-E995-4C79-9B28-E4FF9F5A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E1753-B4AC-43D1-AF9E-E0D7A64E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3E583-64C7-463E-B325-CB821B5D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C72CF-7F93-4943-8C59-EB778662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3DF0F-14DD-4BF0-8F9A-B087E228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C321-3B6D-4D7B-9BAF-AC0C43A5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8F097-29CE-4822-B957-58ED8C31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08CD5-3248-49AB-B3B7-719EB9C4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6F273-C9C1-4F5B-BAA3-390A0D1C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DA72E-02C4-4EB7-A462-ADA0855F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6AC67-5BCC-416D-B418-0093F21B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D1324-58A3-4DA0-B217-AF986455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81B6B-23C4-40EC-A514-D6EEA974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19BBE-CBD4-4D9D-8D35-E6CF6A49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39249F-EC50-4F29-9B43-23BF124D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DB6AE-F22B-478A-BAAB-1F9EF1D9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6496-7187-43BC-B8CD-2290AA41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53832-3326-43E9-A817-693F1419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D964C-0862-49F3-A5DF-AD065F17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50D986-CC3E-4A6A-9C9F-E697E410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521E5-4AB0-4726-8870-F9BEBA47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7264A-9A61-4B63-87E7-DC25F6D1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BAB4C-AB93-4DF8-B3B0-44F98E09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017A8-E80E-430A-A80A-79D34CCC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DEC3A3-7A9A-4EE5-B5CB-1214C56B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2F533-DB9B-43A4-A8F6-E5AFD99D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4FA6EE-D898-4FAC-AF82-2BB8AE29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BA79-01DD-44AE-898B-6BEF3F82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2D6F87-19D2-4E0E-94D5-887B05F0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174D72-9977-46D1-B942-76E1ABF2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D5F24A-48D3-416D-B69C-34C2CCED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AA2118-813F-408D-9420-F8BEB646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06FFC7-AFDC-4A84-8591-1F1D1F06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E02413-50CE-4BBA-93FE-4487CDD3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030A7F-14FB-4225-833C-6ECA0FF2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4C2897-20FB-4137-9421-57D6C66D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63BBCB-BC90-4107-9C88-B0075594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FEEC3-57E0-49E8-93EB-DE776F53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790A-0063-423D-9F02-C699B9AD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B4C84F-2D9C-4782-9458-DC2A717C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05C671-13AD-4717-A954-D100B85C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DECEFF-1F38-4E06-8DF6-0A44C212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8C7A7B-2BCA-44AF-A050-6D46EBC3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B6A96-8586-4F56-8FD9-B34F1651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5FB843-2FCA-4949-9609-C36767CD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9E32D1-0FC3-4964-864D-6C7A5799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28B30-398A-4C37-83B0-FF9B5541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5B7D39-91BE-4AA2-80EB-B2FEE05D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05C6CB-E8ED-49E8-A98F-F713D617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B881-062D-48DE-8CE4-06349AE5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A045C7-E930-4965-ADC4-ACE5A674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F41A-E24D-4136-B952-70D86C80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1C53-CA13-4E67-9029-6324DFF9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93BD-1A7F-4394-BE19-8B8F6CAA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B63F-F6A2-4136-92D4-47716E54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B831-0930-4777-AFCF-5DC9E0A6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F8DB-5966-4F11-8B83-E16A0D80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7E49-DC2B-4EC4-9FB0-0BBFC0A5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ADB1-74DF-46BB-8D12-FD2C7453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7B8A9-2295-4B3E-8AA0-8F7127FF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93C87-019B-4969-8A43-7356A168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4BA6B-A79A-47A5-B217-46FBD4F3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6A655-0D04-4D8A-9E0D-B659BFB3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7C4-208E-4D87-AB5C-31B7988D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E36B9-5ABB-4B7D-B4CE-DC692AD9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EE78B-0218-431D-906B-47A5D786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568F8-1C71-432F-AA40-79CFD51F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2C837-A505-4598-9317-D61B36B9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71F14-D495-423B-BC77-B4D6D597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15954-B2B6-4A28-A0F6-DA2DE767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3DB69-A2C5-46D5-A87F-8F2C958D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B7432-BE3C-49B6-A96E-741AB93C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81E21-260C-423B-982B-685990F7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79094-149D-422C-A422-431C1096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363-BC97-4D13-8976-627624D1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8DEE5-4CBE-471B-B384-C633833E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24CF2-049F-4990-A9B1-868C975A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43E63-DA6A-412C-A1F9-F132D5FA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3BA65-B266-43A4-8343-8E16BE5E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480CC-6072-457E-8723-FBBA3CE5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C7261-3F87-4F67-9FCA-7513F2B3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A8A89-AA24-4270-B579-A7E6FE8F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7CF7F-B191-4BA3-9862-3413627F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DABC7-222A-4A50-9542-569DA905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FF3DE-5ED8-420F-9403-CDCC9DC0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822-7228-4293-A718-F4EF446D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03F53-85FE-4FB8-AC70-FBC241B9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16095-332D-4F96-BC7A-DC592150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85DDA-B944-4BAD-86B5-CF31EDCA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79D8E-3342-46E8-A524-89AE518E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22DCC-C06E-4BE3-955A-575F6E9C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67B92-6637-4DF8-A0D4-36750CDC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59D99-632A-4438-8B05-A715FACA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C0A8E-BFD6-4FFA-B78C-7F43B77B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1E4E5-C141-421B-B3F6-861A61A4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1E14E-A55F-43A7-9939-85B8F9FC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AE9-6BE5-4D29-A47B-7EA38BFC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EFD2C-5668-416F-80F1-5376B3C0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4F8CB-6761-4ED8-AE2D-E3EDA3B9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B9B31-3C73-448A-9C57-A2E0CBD9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25330-BAE0-4AAF-8292-6FC6D408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07F28-E1D9-40F4-9328-42A0E201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8E0D9-FA1D-4AB7-8B87-3851076D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D8C10-1BD2-4790-9E00-8C0FD9F5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8EED9-810D-456E-8D12-80EF6632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233D9-B5EC-4BC8-B0A8-C269824A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5D2B7-0406-4A15-A221-330724DD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8C6-C834-4705-BD8B-1DC60204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8A974-1A5C-4289-98B7-70301828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FB54E-34ED-4CBF-840F-5C049E27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894A9-704C-4A86-94FF-7530AF4C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EF0BE-D0BD-4B8C-85E5-22414E0B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A54F1-6181-4A9B-95D3-DCB81B8A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BA27E-4888-413B-8FB0-459B464A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70B06-C2D4-4F98-BAAA-E87DA20D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1B2C9-9DA6-4FAC-97F1-5CD14F07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4CBA0-C1C4-4555-B60C-5679A263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61993-3C08-4B48-8473-B7EDD640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6E3-64CA-4500-BA22-32CB2EB2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004C7-A11E-407D-859E-B9DD78E8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3A3C2-1E1C-485E-BC8D-8B562A56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B50FA-32F3-4535-B73F-C98D9CE3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AC1CD-FF1E-45E5-AA9E-41D7B302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F6453-B2D6-4094-BD16-FE42DE4D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9A625-50B9-41AA-A1EA-0E69D609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D1A9B-AE02-4BCA-BAC8-5F298226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DEDA9-7A9A-47F3-8A3B-AA2123CC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8662B-5388-4331-9BCF-D1384346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5C4BE-E64D-48AA-9BB1-285E70C7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C6C-84C0-48DC-B7D1-4AE18936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48E53-CFA1-41A9-8FE0-D814C1A9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BF2BE-AAE3-49C3-B66F-4F6FB791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888B2-3714-42BF-B75B-0B25F252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868F7-534E-4139-B6BF-10B92EBD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CF8C3-EC67-4ABF-9E89-37FCCF3E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227B7-6838-4D43-9574-EBD2DD43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F1A8E-5C9B-4F35-B2D6-07D6E004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366CF4-34D7-428E-9928-0F342CC3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15CB62-A79D-4942-8F81-1591470B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724F22-D0FD-4C7D-8717-32F5EA92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6.wmf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image" Target="../media/image10.png"/><Relationship Id="rId35" Type="http://schemas.openxmlformats.org/officeDocument/2006/relationships/slideLayout" Target="../slideLayouts/slideLayout145.xml"/><Relationship Id="rId36" Type="http://schemas.openxmlformats.org/officeDocument/2006/relationships/slideLayout" Target="../slideLayouts/slideLayout146.xml"/><Relationship Id="rId37" Type="http://schemas.openxmlformats.org/officeDocument/2006/relationships/slideLayout" Target="../slideLayouts/slideLayout147.xml"/><Relationship Id="rId38" Type="http://schemas.openxmlformats.org/officeDocument/2006/relationships/slideLayout" Target="../slideLayouts/slideLayout148.xml"/><Relationship Id="rId39" Type="http://schemas.openxmlformats.org/officeDocument/2006/relationships/slideLayout" Target="../slideLayouts/slideLayout149.xml"/><Relationship Id="rId40" Type="http://schemas.openxmlformats.org/officeDocument/2006/relationships/slideLayout" Target="../slideLayouts/slideLayout150.xml"/><Relationship Id="rId41" Type="http://schemas.openxmlformats.org/officeDocument/2006/relationships/slideLayout" Target="../slideLayouts/slideLayout151.xml"/><Relationship Id="rId42" Type="http://schemas.openxmlformats.org/officeDocument/2006/relationships/slideLayout" Target="../slideLayouts/slideLayout152.xml"/><Relationship Id="rId43" Type="http://schemas.openxmlformats.org/officeDocument/2006/relationships/slideLayout" Target="../slideLayouts/slideLayout153.xml"/><Relationship Id="rId44" Type="http://schemas.openxmlformats.org/officeDocument/2006/relationships/slideLayout" Target="../slideLayouts/slideLayout154.xml"/><Relationship Id="rId45" Type="http://schemas.openxmlformats.org/officeDocument/2006/relationships/slideLayout" Target="../slideLayouts/slideLayout155.xml"/><Relationship Id="rId4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6.wmf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image" Target="../media/image10.png"/><Relationship Id="rId35" Type="http://schemas.openxmlformats.org/officeDocument/2006/relationships/slideLayout" Target="../slideLayouts/slideLayout49.xml"/><Relationship Id="rId36" Type="http://schemas.openxmlformats.org/officeDocument/2006/relationships/slideLayout" Target="../slideLayouts/slideLayout50.xml"/><Relationship Id="rId37" Type="http://schemas.openxmlformats.org/officeDocument/2006/relationships/slideLayout" Target="../slideLayouts/slideLayout51.xml"/><Relationship Id="rId38" Type="http://schemas.openxmlformats.org/officeDocument/2006/relationships/slideLayout" Target="../slideLayouts/slideLayout52.xml"/><Relationship Id="rId39" Type="http://schemas.openxmlformats.org/officeDocument/2006/relationships/slideLayout" Target="../slideLayouts/slideLayout53.xml"/><Relationship Id="rId40" Type="http://schemas.openxmlformats.org/officeDocument/2006/relationships/slideLayout" Target="../slideLayouts/slideLayout54.xml"/><Relationship Id="rId41" Type="http://schemas.openxmlformats.org/officeDocument/2006/relationships/slideLayout" Target="../slideLayouts/slideLayout55.xml"/><Relationship Id="rId42" Type="http://schemas.openxmlformats.org/officeDocument/2006/relationships/slideLayout" Target="../slideLayouts/slideLayout56.xml"/><Relationship Id="rId43" Type="http://schemas.openxmlformats.org/officeDocument/2006/relationships/slideLayout" Target="../slideLayouts/slideLayout57.xml"/><Relationship Id="rId44" Type="http://schemas.openxmlformats.org/officeDocument/2006/relationships/slideLayout" Target="../slideLayouts/slideLayout58.xml"/><Relationship Id="rId45" Type="http://schemas.openxmlformats.org/officeDocument/2006/relationships/slideLayout" Target="../slideLayouts/slideLayout59.xml"/><Relationship Id="rId4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2E2D-401C-4C06-9674-E6658946C3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8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5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58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6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7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9182-419D-4E64-8D3A-FD4B472E982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C1A9-38CE-470D-B56D-A931771DCD3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3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DEEB-E9AB-4AA6-B83E-B61DEFC6E6E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696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9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700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701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702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703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5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11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2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3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4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5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6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7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8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19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20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1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2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3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4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5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6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7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8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9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0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1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2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3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4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5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6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7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8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39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2303-2695-479F-974D-BF5637D645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5"/>
    <p:sldLayoutId id="2147483806" r:id="rId36"/>
    <p:sldLayoutId id="2147483807" r:id="rId37"/>
    <p:sldLayoutId id="2147483808" r:id="rId38"/>
    <p:sldLayoutId id="2147483809" r:id="rId39"/>
    <p:sldLayoutId id="2147483810" r:id="rId40"/>
    <p:sldLayoutId id="2147483811" r:id="rId41"/>
    <p:sldLayoutId id="2147483812" r:id="rId42"/>
    <p:sldLayoutId id="2147483813" r:id="rId43"/>
    <p:sldLayoutId id="2147483814" r:id="rId44"/>
    <p:sldLayoutId id="2147483815" r:id="rId45"/>
    <p:sldLayoutId id="2147483816" r:id="rId4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92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94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1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2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3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3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4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4E1E-1050-4F5C-A006-CB27D1F78C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C587-4FFD-4B63-BCFC-3ED26F7E8E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2461-423C-40C0-BC2A-C1BE9943092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CC08-18A3-4C12-9D06-23762D4BDA1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A7BB-21A7-45E7-8578-49E3856ADBA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1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1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2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2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22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4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30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39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8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E261-F02A-418B-BAFB-D88ECDFECC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5"/>
    <p:sldLayoutId id="2147483702" r:id="rId36"/>
    <p:sldLayoutId id="2147483703" r:id="rId37"/>
    <p:sldLayoutId id="2147483704" r:id="rId38"/>
    <p:sldLayoutId id="2147483705" r:id="rId39"/>
    <p:sldLayoutId id="2147483706" r:id="rId40"/>
    <p:sldLayoutId id="2147483707" r:id="rId41"/>
    <p:sldLayoutId id="2147483708" r:id="rId42"/>
    <p:sldLayoutId id="2147483709" r:id="rId43"/>
    <p:sldLayoutId id="2147483710" r:id="rId44"/>
    <p:sldLayoutId id="2147483711" r:id="rId45"/>
    <p:sldLayoutId id="2147483712" r:id="rId4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1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1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3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5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5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A92D-021B-41D4-BDD9-CDDCA6C21B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E5AC-FB97-4D7A-92BF-970697F96A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5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E92A-7971-4EE7-966F-E01C2CE3A4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22CD-D053-420E-B5F2-9C6C2C69EA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4"/>
          <p:cNvSpPr/>
          <p:nvPr/>
        </p:nvSpPr>
        <p:spPr>
          <a:xfrm>
            <a:off x="533520" y="78480"/>
            <a:ext cx="7800840" cy="606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О результатах провед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раевых диагностических раб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 математике и первоочередн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задач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 подготовке 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ЕГЭ – 2009  по математик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 Box 6"/>
          <p:cNvSpPr/>
          <p:nvPr/>
        </p:nvSpPr>
        <p:spPr>
          <a:xfrm>
            <a:off x="6172200" y="5715000"/>
            <a:ext cx="2590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.Н.Мерет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одист РИМ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5"/>
          <p:cNvSpPr/>
          <p:nvPr/>
        </p:nvSpPr>
        <p:spPr>
          <a:xfrm>
            <a:off x="325800" y="-306000"/>
            <a:ext cx="5562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311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1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1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6633"/>
                </a:solidFill>
                <a:uFillTx/>
                <a:latin typeface="Arial"/>
                <a:ea typeface="Times New Roman"/>
              </a:rPr>
              <a:t>               </a:t>
            </a:r>
            <a:r>
              <a:rPr b="1" i="1" lang="ru-RU" sz="3200" spc="-1" strike="noStrike" u="sng">
                <a:solidFill>
                  <a:srgbClr val="996633"/>
                </a:solidFill>
                <a:uFillTx/>
                <a:latin typeface="Arial"/>
              </a:rPr>
              <a:t>МОУ СОШ №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1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6633"/>
                </a:solidFill>
                <a:uFillTx/>
                <a:latin typeface="Arial"/>
                <a:ea typeface="Times New Roman"/>
              </a:rPr>
              <a:t>                 </a:t>
            </a:r>
            <a:r>
              <a:rPr b="1" lang="ru-RU" sz="2400" spc="-1" strike="noStrike" u="sng">
                <a:solidFill>
                  <a:srgbClr val="996633"/>
                </a:solidFill>
                <a:uFillTx/>
                <a:latin typeface="Arial"/>
                <a:ea typeface="Times New Roman"/>
              </a:rPr>
              <a:t>Директор  Недобитко С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1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6633"/>
                </a:solidFill>
                <a:uFillTx/>
                <a:latin typeface="Arial"/>
                <a:ea typeface="Times New Roman"/>
              </a:rPr>
              <a:t>                  </a:t>
            </a:r>
            <a:r>
              <a:rPr b="1" lang="ru-RU" sz="2400" spc="-1" strike="noStrike" u="sng">
                <a:solidFill>
                  <a:srgbClr val="996633"/>
                </a:solidFill>
                <a:uFillTx/>
                <a:latin typeface="Arial"/>
                <a:ea typeface="Times New Roman"/>
              </a:rPr>
              <a:t>Учитель Руев И.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1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6633"/>
                </a:solidFill>
                <a:uFillTx/>
                <a:latin typeface="Arial"/>
                <a:ea typeface="Times New Roman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1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9" name="Object 4"/>
          <p:cNvGraphicFramePr/>
          <p:nvPr/>
        </p:nvGraphicFramePr>
        <p:xfrm>
          <a:off x="609480" y="1981080"/>
          <a:ext cx="7793280" cy="44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79328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1" name="Rectangle 6"/>
          <p:cNvSpPr/>
          <p:nvPr/>
        </p:nvSpPr>
        <p:spPr>
          <a:xfrm>
            <a:off x="0" y="141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5"/>
          <p:cNvSpPr/>
          <p:nvPr/>
        </p:nvSpPr>
        <p:spPr>
          <a:xfrm>
            <a:off x="482760" y="-230760"/>
            <a:ext cx="56671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ОУ СОШ №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иректор Штомпель Е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Учитель Якина Л.Ф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3" name="Object 4"/>
          <p:cNvGraphicFramePr/>
          <p:nvPr/>
        </p:nvGraphicFramePr>
        <p:xfrm>
          <a:off x="0" y="1523880"/>
          <a:ext cx="7808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7808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5" name="Rectangle 6"/>
          <p:cNvSpPr/>
          <p:nvPr/>
        </p:nvSpPr>
        <p:spPr>
          <a:xfrm>
            <a:off x="457200" y="141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5"/>
          <p:cNvSpPr/>
          <p:nvPr/>
        </p:nvSpPr>
        <p:spPr>
          <a:xfrm>
            <a:off x="-6120" y="-245520"/>
            <a:ext cx="69415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ОУ СОШ №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иректор Малеева Н.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Учитель Клитная Л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7" name="Object 4"/>
          <p:cNvGraphicFramePr/>
          <p:nvPr/>
        </p:nvGraphicFramePr>
        <p:xfrm>
          <a:off x="457200" y="1676520"/>
          <a:ext cx="8402760" cy="49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02760" cy="49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9" name="Rectangle 6"/>
          <p:cNvSpPr/>
          <p:nvPr/>
        </p:nvSpPr>
        <p:spPr>
          <a:xfrm>
            <a:off x="241560" y="1397520"/>
            <a:ext cx="16538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473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73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5"/>
          <p:cNvSpPr/>
          <p:nvPr/>
        </p:nvSpPr>
        <p:spPr>
          <a:xfrm>
            <a:off x="-203760" y="-16560"/>
            <a:ext cx="72385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473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73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ОУ СОШ №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73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иректор Ермакова Н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73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Учитель Блохина З.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73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1" name="Object 4"/>
          <p:cNvGraphicFramePr/>
          <p:nvPr/>
        </p:nvGraphicFramePr>
        <p:xfrm>
          <a:off x="152280" y="1828800"/>
          <a:ext cx="83264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8326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3" name="Rectangle 6"/>
          <p:cNvSpPr/>
          <p:nvPr/>
        </p:nvSpPr>
        <p:spPr>
          <a:xfrm>
            <a:off x="5334120" y="-327960"/>
            <a:ext cx="215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5"/>
          <p:cNvSpPr/>
          <p:nvPr/>
        </p:nvSpPr>
        <p:spPr>
          <a:xfrm>
            <a:off x="-474840" y="-62280"/>
            <a:ext cx="10226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У СОШ №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иректор  Есипенко Т.Н.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читель Василенко Г.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5" name="Object 4"/>
          <p:cNvGraphicFramePr/>
          <p:nvPr/>
        </p:nvGraphicFramePr>
        <p:xfrm>
          <a:off x="1351080" y="1676520"/>
          <a:ext cx="7792920" cy="44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1080" y="1676520"/>
                    <a:ext cx="779292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7" name="Rectangle 6"/>
          <p:cNvSpPr/>
          <p:nvPr/>
        </p:nvSpPr>
        <p:spPr>
          <a:xfrm>
            <a:off x="0" y="1494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5"/>
          <p:cNvSpPr/>
          <p:nvPr/>
        </p:nvSpPr>
        <p:spPr>
          <a:xfrm>
            <a:off x="-218520" y="-428040"/>
            <a:ext cx="6872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МОУ СОШ №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                 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Директор Лугинец В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          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Учителя : Клинтух В.А., Астен Н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9" name="Object 4"/>
          <p:cNvGraphicFramePr/>
          <p:nvPr/>
        </p:nvGraphicFramePr>
        <p:xfrm>
          <a:off x="838080" y="1752480"/>
          <a:ext cx="7793280" cy="44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9328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1" name="Rectangle 6"/>
          <p:cNvSpPr/>
          <p:nvPr/>
        </p:nvSpPr>
        <p:spPr>
          <a:xfrm>
            <a:off x="0" y="141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5"/>
          <p:cNvSpPr/>
          <p:nvPr/>
        </p:nvSpPr>
        <p:spPr>
          <a:xfrm>
            <a:off x="-170640" y="-245160"/>
            <a:ext cx="6309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ОУ СОШ №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иректор Приходько С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Учитель Погорелая С.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3" name="Object 4"/>
          <p:cNvGraphicFramePr/>
          <p:nvPr/>
        </p:nvGraphicFramePr>
        <p:xfrm>
          <a:off x="838080" y="1676520"/>
          <a:ext cx="7793280" cy="44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79328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5" name="Rectangle 6"/>
          <p:cNvSpPr/>
          <p:nvPr/>
        </p:nvSpPr>
        <p:spPr>
          <a:xfrm>
            <a:off x="0" y="164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5"/>
          <p:cNvSpPr/>
          <p:nvPr/>
        </p:nvSpPr>
        <p:spPr>
          <a:xfrm>
            <a:off x="128160" y="90360"/>
            <a:ext cx="5555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cc"/>
                </a:solidFill>
                <a:uFillTx/>
                <a:latin typeface="Arial"/>
              </a:rPr>
              <a:t>              </a:t>
            </a:r>
            <a:r>
              <a:rPr b="1" i="1" lang="ru-RU" sz="3200" spc="-1" strike="noStrike" u="sng">
                <a:solidFill>
                  <a:srgbClr val="0033cc"/>
                </a:solidFill>
                <a:uFillTx/>
                <a:latin typeface="Arial"/>
              </a:rPr>
              <a:t>МОУ СОШ №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</a:rPr>
              <a:t>                  </a:t>
            </a:r>
            <a:r>
              <a:rPr b="1" i="1" lang="ru-RU" sz="24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</a:rPr>
              <a:t>Директор Хагуш Л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</a:rPr>
              <a:t>                     </a:t>
            </a:r>
            <a:r>
              <a:rPr b="1" i="1" lang="ru-RU" sz="24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</a:rPr>
              <a:t>Учитель Разумная Т.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7" name="Object 4"/>
          <p:cNvGraphicFramePr/>
          <p:nvPr/>
        </p:nvGraphicFramePr>
        <p:xfrm>
          <a:off x="457200" y="1752480"/>
          <a:ext cx="7792920" cy="44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779292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9" name="Rectangle 6"/>
          <p:cNvSpPr/>
          <p:nvPr/>
        </p:nvSpPr>
        <p:spPr>
          <a:xfrm>
            <a:off x="0" y="158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5"/>
          <p:cNvSpPr/>
          <p:nvPr/>
        </p:nvSpPr>
        <p:spPr>
          <a:xfrm>
            <a:off x="1295280" y="-2160"/>
            <a:ext cx="58546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6ffff"/>
                </a:solidFill>
                <a:uFillTx/>
                <a:latin typeface="Arial"/>
              </a:rPr>
              <a:t>     </a:t>
            </a:r>
            <a:r>
              <a:rPr b="1" i="1" lang="ru-RU" sz="3200" spc="-1" strike="noStrike" u="sng">
                <a:solidFill>
                  <a:srgbClr val="66ffff"/>
                </a:solidFill>
                <a:uFillTx/>
                <a:latin typeface="Arial"/>
              </a:rPr>
              <a:t>МОУ СОШ №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ffff"/>
                </a:solidFill>
                <a:uFillTx/>
                <a:latin typeface="Arial"/>
                <a:ea typeface="Times New Roman"/>
              </a:rPr>
              <a:t>    </a:t>
            </a:r>
            <a:r>
              <a:rPr b="1" i="1" lang="ru-RU" sz="2400" spc="-1" strike="noStrike" u="sng">
                <a:solidFill>
                  <a:srgbClr val="66ffff"/>
                </a:solidFill>
                <a:uFillTx/>
                <a:latin typeface="Arial"/>
                <a:ea typeface="Times New Roman"/>
              </a:rPr>
              <a:t>Директор Бойко О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ffff"/>
                </a:solidFill>
                <a:uFillTx/>
                <a:latin typeface="Arial"/>
                <a:ea typeface="Times New Roman"/>
              </a:rPr>
              <a:t>      </a:t>
            </a:r>
            <a:r>
              <a:rPr b="1" i="1" lang="ru-RU" sz="2400" spc="-1" strike="noStrike" u="sng">
                <a:solidFill>
                  <a:srgbClr val="66ffff"/>
                </a:solidFill>
                <a:uFillTx/>
                <a:latin typeface="Arial"/>
                <a:ea typeface="Times New Roman"/>
              </a:rPr>
              <a:t>Учитель Эминова Е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1" name="Object 4"/>
          <p:cNvGraphicFramePr/>
          <p:nvPr/>
        </p:nvGraphicFramePr>
        <p:xfrm>
          <a:off x="838080" y="1676520"/>
          <a:ext cx="7793280" cy="44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79328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3" name="Rectangle 6"/>
          <p:cNvSpPr/>
          <p:nvPr/>
        </p:nvSpPr>
        <p:spPr>
          <a:xfrm>
            <a:off x="508320" y="1710360"/>
            <a:ext cx="107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5"/>
          <p:cNvSpPr/>
          <p:nvPr/>
        </p:nvSpPr>
        <p:spPr>
          <a:xfrm>
            <a:off x="-187560" y="90360"/>
            <a:ext cx="6288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                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МОУ СОШ №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Директор Герасименко Т. 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                     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Учитель Лавринова Т.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5" name="Object 4"/>
          <p:cNvGraphicFramePr/>
          <p:nvPr/>
        </p:nvGraphicFramePr>
        <p:xfrm>
          <a:off x="457200" y="2057400"/>
          <a:ext cx="7792920" cy="44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779292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7" name="Rectangle 6"/>
          <p:cNvSpPr/>
          <p:nvPr/>
        </p:nvSpPr>
        <p:spPr>
          <a:xfrm>
            <a:off x="0" y="1798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5"/>
          <p:cNvSpPr/>
          <p:nvPr/>
        </p:nvSpPr>
        <p:spPr>
          <a:xfrm>
            <a:off x="609480" y="91440"/>
            <a:ext cx="7620120" cy="12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редние показатели (в %)  результатов тренировочно-диагностических раб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в 11-х класс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304920" y="1143000"/>
          <a:ext cx="8153280" cy="5410080"/>
        </p:xfrm>
        <a:graphic>
          <a:graphicData uri="http://schemas.openxmlformats.org/drawingml/2006/table">
            <a:tbl>
              <a:tblPr/>
              <a:tblGrid>
                <a:gridCol w="1630080"/>
                <a:gridCol w="1630440"/>
                <a:gridCol w="1631880"/>
                <a:gridCol w="1630440"/>
                <a:gridCol w="1630440"/>
              </a:tblGrid>
              <a:tr h="709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ябр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,4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,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,6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9" name="Rectangle 168"/>
          <p:cNvSpPr/>
          <p:nvPr/>
        </p:nvSpPr>
        <p:spPr>
          <a:xfrm>
            <a:off x="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Rectangle 169"/>
          <p:cNvSpPr/>
          <p:nvPr/>
        </p:nvSpPr>
        <p:spPr>
          <a:xfrm>
            <a:off x="1800" y="58413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5"/>
          <p:cNvSpPr/>
          <p:nvPr/>
        </p:nvSpPr>
        <p:spPr>
          <a:xfrm>
            <a:off x="83880" y="-78120"/>
            <a:ext cx="685116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МОУ СОШ №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Директор Тотьмянин А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            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Учитель Нагулина О.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9" name="Object 4"/>
          <p:cNvGraphicFramePr/>
          <p:nvPr/>
        </p:nvGraphicFramePr>
        <p:xfrm>
          <a:off x="990720" y="1905120"/>
          <a:ext cx="7792920" cy="44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7792920" cy="4443120"/>
                  </a:xfrm>
                  <a:prstGeom prst="rect">
                    <a:avLst/>
                  </a:prstGeom>
                  <a:ln w="9360">
                    <a:solidFill>
                      <a:srgbClr val="993366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5"/>
          <p:cNvSpPr/>
          <p:nvPr/>
        </p:nvSpPr>
        <p:spPr>
          <a:xfrm>
            <a:off x="1800" y="134280"/>
            <a:ext cx="4752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МОУ ВСОШ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 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Директор Рунцова И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    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Учитель Колмычек Е.В.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2" name="Object 4"/>
          <p:cNvGraphicFramePr/>
          <p:nvPr/>
        </p:nvGraphicFramePr>
        <p:xfrm>
          <a:off x="457200" y="1905120"/>
          <a:ext cx="7792920" cy="44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779292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4" name="Rectangle 6"/>
          <p:cNvSpPr/>
          <p:nvPr/>
        </p:nvSpPr>
        <p:spPr>
          <a:xfrm>
            <a:off x="0" y="17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5"/>
          <p:cNvSpPr/>
          <p:nvPr/>
        </p:nvSpPr>
        <p:spPr>
          <a:xfrm>
            <a:off x="685800" y="12276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ейтинг качества знаний учащихся школ по результатам контрольных работ по алгебре и  началам анализа (ноябрь, декабрь, январь, февраль, март),11клас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6" name="Object 4"/>
          <p:cNvGraphicFramePr/>
          <p:nvPr/>
        </p:nvGraphicFramePr>
        <p:xfrm>
          <a:off x="0" y="1185840"/>
          <a:ext cx="9144000" cy="56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5840"/>
                    <a:ext cx="914400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8" name="Rectangle 6"/>
          <p:cNvSpPr/>
          <p:nvPr/>
        </p:nvSpPr>
        <p:spPr>
          <a:xfrm>
            <a:off x="5544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5"/>
          <p:cNvSpPr/>
          <p:nvPr/>
        </p:nvSpPr>
        <p:spPr>
          <a:xfrm>
            <a:off x="685800" y="382320"/>
            <a:ext cx="8153280" cy="1067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  <a:ea typeface="Times New Roman"/>
              </a:rPr>
              <a:t>Рейтинг успешности школ по результатам   контрольных работ по алгебре и началам анализ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  <a:ea typeface="Times New Roman"/>
              </a:rPr>
              <a:t>(ноябрь, декабрь, январь, февраль, март), 11клас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0" name="Object 4"/>
          <p:cNvGraphicFramePr/>
          <p:nvPr/>
        </p:nvGraphicFramePr>
        <p:xfrm>
          <a:off x="0" y="1281240"/>
          <a:ext cx="8991720" cy="55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81240"/>
                    <a:ext cx="8991720" cy="55767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2" name="Rectangle 6"/>
          <p:cNvSpPr/>
          <p:nvPr/>
        </p:nvSpPr>
        <p:spPr>
          <a:xfrm>
            <a:off x="0" y="808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3" name="Object 4"/>
          <p:cNvGraphicFramePr/>
          <p:nvPr/>
        </p:nvGraphicFramePr>
        <p:xfrm>
          <a:off x="457200" y="1523880"/>
          <a:ext cx="81342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1342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</a:t>
            </a: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Сравнительный анализ результатов  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                 ЕГЭ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med">
    <p:comb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адачи по подготовке к ЕГЭ-2009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ить объективное проведение в апреле краевой диагностическ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илить работу со слабоуспевающими учащимися на основе диагностических кар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ернуть работу межшкольных факультативов для сильных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омпьютерных классах ОУ организовать работу учащихся 11-х классов с открытом сегментом федерального банка зад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2"/>
          <p:cNvSpPr/>
          <p:nvPr/>
        </p:nvSpPr>
        <p:spPr>
          <a:xfrm>
            <a:off x="304560" y="1249200"/>
            <a:ext cx="38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951552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951552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951552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  </a:t>
            </a: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Спасибо за внимание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иаграмма распределения количества оцено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Object 11"/>
          <p:cNvGraphicFramePr/>
          <p:nvPr/>
        </p:nvGraphicFramePr>
        <p:xfrm>
          <a:off x="380880" y="1523880"/>
          <a:ext cx="8229600" cy="453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22960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5"/>
          <p:cNvSpPr/>
          <p:nvPr/>
        </p:nvSpPr>
        <p:spPr>
          <a:xfrm>
            <a:off x="125280" y="322920"/>
            <a:ext cx="879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951552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обученности  и качества знаний учащихся               11(12)-х классов ОУ Павловского район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5" name="Object 4"/>
          <p:cNvGraphicFramePr/>
          <p:nvPr/>
        </p:nvGraphicFramePr>
        <p:xfrm>
          <a:off x="304920" y="1370160"/>
          <a:ext cx="8305560" cy="54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0160"/>
                    <a:ext cx="8305560" cy="54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7" name="Rectangle 6"/>
          <p:cNvSpPr/>
          <p:nvPr/>
        </p:nvSpPr>
        <p:spPr>
          <a:xfrm>
            <a:off x="-360" y="1248840"/>
            <a:ext cx="38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951552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951552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5"/>
          <p:cNvSpPr/>
          <p:nvPr/>
        </p:nvSpPr>
        <p:spPr>
          <a:xfrm>
            <a:off x="75600" y="-1800"/>
            <a:ext cx="111916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951552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951552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МОУ СОШ №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951552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иректор    Радуль Л.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951552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Учитель     Матрёнич Д.Б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951552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9" name="Object 4"/>
          <p:cNvGraphicFramePr/>
          <p:nvPr/>
        </p:nvGraphicFramePr>
        <p:xfrm>
          <a:off x="685800" y="1905120"/>
          <a:ext cx="7594560" cy="43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594560" cy="43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1" name="Rectangle 6"/>
          <p:cNvSpPr/>
          <p:nvPr/>
        </p:nvSpPr>
        <p:spPr>
          <a:xfrm>
            <a:off x="0" y="168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5"/>
          <p:cNvSpPr/>
          <p:nvPr/>
        </p:nvSpPr>
        <p:spPr>
          <a:xfrm>
            <a:off x="150120" y="-383040"/>
            <a:ext cx="90975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ОУ СОШ №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иректор Кадыров Р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Учителя: Цапко Г.А., Стороженко Е.В.,  Завгородняя В.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3" name="Object 4"/>
          <p:cNvGraphicFramePr/>
          <p:nvPr/>
        </p:nvGraphicFramePr>
        <p:xfrm>
          <a:off x="0" y="1752480"/>
          <a:ext cx="7594560" cy="438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7594560" cy="43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5" name="Rectangle 6"/>
          <p:cNvSpPr/>
          <p:nvPr/>
        </p:nvSpPr>
        <p:spPr>
          <a:xfrm>
            <a:off x="0" y="1494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5"/>
          <p:cNvSpPr/>
          <p:nvPr/>
        </p:nvSpPr>
        <p:spPr>
          <a:xfrm>
            <a:off x="12600" y="-414720"/>
            <a:ext cx="8831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ОУ СОШ №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иректор Ручкин Н.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Учителя: Волочаева Н.В., Бякова И.Г., Лесовая С.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7" name="Object 4"/>
          <p:cNvGraphicFramePr/>
          <p:nvPr/>
        </p:nvGraphicFramePr>
        <p:xfrm>
          <a:off x="990720" y="1676520"/>
          <a:ext cx="7792920" cy="44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79292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Rectangle 6"/>
          <p:cNvSpPr/>
          <p:nvPr/>
        </p:nvSpPr>
        <p:spPr>
          <a:xfrm>
            <a:off x="382680" y="1721880"/>
            <a:ext cx="2238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5"/>
          <p:cNvSpPr/>
          <p:nvPr/>
        </p:nvSpPr>
        <p:spPr>
          <a:xfrm>
            <a:off x="51840" y="-913680"/>
            <a:ext cx="61686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ОУ СОШ №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иректор Бойко Л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Учитель  Шишко С.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1" name="Object 4"/>
          <p:cNvGraphicFramePr/>
          <p:nvPr/>
        </p:nvGraphicFramePr>
        <p:xfrm>
          <a:off x="457200" y="1752480"/>
          <a:ext cx="7792920" cy="44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779292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Rectangle 6"/>
          <p:cNvSpPr/>
          <p:nvPr/>
        </p:nvSpPr>
        <p:spPr>
          <a:xfrm>
            <a:off x="0" y="16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5"/>
          <p:cNvSpPr/>
          <p:nvPr/>
        </p:nvSpPr>
        <p:spPr>
          <a:xfrm>
            <a:off x="-97200" y="-245520"/>
            <a:ext cx="62906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311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1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                 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МОУ СОШ №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1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   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Директор Остапенко С.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1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        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Учитель  Остапенко С.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1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1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5" name="Object 4"/>
          <p:cNvGraphicFramePr/>
          <p:nvPr/>
        </p:nvGraphicFramePr>
        <p:xfrm>
          <a:off x="609480" y="1752480"/>
          <a:ext cx="77932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77932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7" name="Rectangle 6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2311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1:16:22Z</dcterms:created>
  <dc:creator>Людмила</dc:creator>
  <dc:description/>
  <dc:language>en-US</dc:language>
  <cp:lastModifiedBy>Татьяна</cp:lastModifiedBy>
  <dcterms:modified xsi:type="dcterms:W3CDTF">2009-04-08T11:15:30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