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344B9-2A63-477E-98E1-5F94F2E186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0B142-FA7A-48B0-974F-71DF900043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049B-7371-43B6-A191-B15BB4D9B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E86D-5BD2-423C-8600-D41D1CA4F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23BD-A3B6-4EC8-A66B-E3A891E31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E79E-A402-46E2-B0BE-84B7B5185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7B47E-0DAD-414C-84CD-08CCDBC47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1FB9E-198E-4C3B-A522-D120619C9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CDBCA-8CE0-474B-8F98-95DC4952C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EECD1-8FCB-4901-8BF2-CA37B467E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EDCF7-AAC9-4F63-8549-895627011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84817-5E1A-45B3-9A43-EFB8D6A53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3BA4E-9583-4ECF-BA54-47754C485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5488-7926-4B10-81D8-5CE70062F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E84DB-60F1-4D06-B40C-5F8591E86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D220B-9440-47EF-9D41-DE7ADA6FD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8EB42-CA7B-44AC-B5C9-015B2958E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36CB4-4740-4968-A196-994D12A7D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55123-7B6A-451C-974F-F6C01BB18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AD58-FF19-4F54-AB61-F9C1C9C59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15B9-01E4-42D4-B750-8DA81D65F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A6C9-2658-461E-A401-FB21E9352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8DC7-5304-4238-ADA7-6F8E33A0B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9820-DE7F-4F59-87C4-E2FA0F152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9756-9862-4FAC-9B6B-DB1306296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2CAA-56AF-4ED9-9B7D-A576783B3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F7663-3B1E-4759-9E98-8BBBD132A21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0DB67-6AC7-4146-BE19-EEEF42C11A2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0"/>
          <p:cNvGrpSpPr/>
          <p:nvPr/>
        </p:nvGrpSpPr>
        <p:grpSpPr>
          <a:xfrm>
            <a:off x="900000" y="476280"/>
            <a:ext cx="7274160" cy="5510160"/>
            <a:chOff x="900000" y="476280"/>
            <a:chExt cx="7274160" cy="5510160"/>
          </a:xfrm>
        </p:grpSpPr>
        <p:pic>
          <p:nvPicPr>
            <p:cNvPr id="105" name="Picture 18" descr="5"/>
            <p:cNvPicPr/>
            <p:nvPr/>
          </p:nvPicPr>
          <p:blipFill>
            <a:blip r:embed="rId1"/>
            <a:stretch/>
          </p:blipFill>
          <p:spPr>
            <a:xfrm>
              <a:off x="900000" y="530280"/>
              <a:ext cx="7274160" cy="545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4"/>
            <p:cNvSpPr/>
            <p:nvPr/>
          </p:nvSpPr>
          <p:spPr>
            <a:xfrm>
              <a:off x="2881440" y="692280"/>
              <a:ext cx="5040360" cy="1739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e1"/>
                  </a:solidFill>
                  <a:latin typeface="Arial"/>
                </a:rPr>
                <a:t>ИТОГИ </a:t>
              </a:r>
              <a:r>
                <a:rPr b="1" lang="en-US" sz="2400" spc="-1" strike="noStrike">
                  <a:solidFill>
                    <a:srgbClr val="ffffe1"/>
                  </a:solidFill>
                  <a:latin typeface="Arial"/>
                </a:rPr>
                <a:t>I, II, III </a:t>
              </a:r>
              <a:r>
                <a:rPr b="1" lang="ru-RU" sz="2400" spc="-1" strike="noStrike">
                  <a:solidFill>
                    <a:srgbClr val="ffffe1"/>
                  </a:solidFill>
                  <a:latin typeface="Arial"/>
                </a:rPr>
                <a:t>этапов ОЛИМПИАДЫ ШКОЛЬНИКОВ</a:t>
              </a:r>
              <a:r>
                <a:rPr b="0" lang="ru-RU" sz="2400" spc="-1" strike="noStrike">
                  <a:solidFill>
                    <a:srgbClr val="ffffe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e1"/>
                  </a:solidFill>
                  <a:latin typeface="Arial"/>
                </a:rPr>
                <a:t>В 2008-2009 УЧЕБНОМ ГОД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5"/>
            <p:cNvSpPr/>
            <p:nvPr/>
          </p:nvSpPr>
          <p:spPr>
            <a:xfrm>
              <a:off x="1368360" y="2924280"/>
              <a:ext cx="4608720" cy="366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19"/>
            <p:cNvSpPr/>
            <p:nvPr/>
          </p:nvSpPr>
          <p:spPr>
            <a:xfrm>
              <a:off x="1224000" y="476280"/>
              <a:ext cx="1150920" cy="115092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Rectangle 21"/>
          <p:cNvSpPr/>
          <p:nvPr/>
        </p:nvSpPr>
        <p:spPr>
          <a:xfrm>
            <a:off x="395280" y="263520"/>
            <a:ext cx="8353440" cy="6337440"/>
          </a:xfrm>
          <a:prstGeom prst="rect">
            <a:avLst/>
          </a:prstGeom>
          <a:noFill/>
          <a:ln w="10152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22">
            <a:hlinkClick r:id="" action="ppaction://hlinkshowjump?jump=nextslide"/>
          </p:cNvPr>
          <p:cNvSpPr/>
          <p:nvPr/>
        </p:nvSpPr>
        <p:spPr>
          <a:xfrm>
            <a:off x="8604360" y="6453360"/>
            <a:ext cx="503280" cy="404640"/>
          </a:xfrm>
          <a:custGeom>
            <a:avLst/>
            <a:gdLst>
              <a:gd name="textAreaLeft" fmla="*/ 25920 w 503280"/>
              <a:gd name="textAreaRight" fmla="*/ 477360 w 5032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861" h="21600">
                <a:moveTo>
                  <a:pt x="0" y="0"/>
                </a:moveTo>
                <a:lnTo>
                  <a:pt x="26861" y="0"/>
                </a:lnTo>
                <a:lnTo>
                  <a:pt x="26861" y="21600"/>
                </a:lnTo>
                <a:lnTo>
                  <a:pt x="0" y="21600"/>
                </a:lnTo>
                <a:close/>
              </a:path>
              <a:path fill="lightenLess" w="26861" h="21600">
                <a:moveTo>
                  <a:pt x="0" y="0"/>
                </a:moveTo>
                <a:lnTo>
                  <a:pt x="26861" y="0"/>
                </a:lnTo>
                <a:lnTo>
                  <a:pt x="25461" y="1400"/>
                </a:lnTo>
                <a:lnTo>
                  <a:pt x="1400" y="1400"/>
                </a:lnTo>
                <a:close/>
              </a:path>
              <a:path fill="darken" w="26861" h="21600">
                <a:moveTo>
                  <a:pt x="26861" y="0"/>
                </a:moveTo>
                <a:lnTo>
                  <a:pt x="26861" y="21600"/>
                </a:lnTo>
                <a:lnTo>
                  <a:pt x="25461" y="20200"/>
                </a:lnTo>
                <a:lnTo>
                  <a:pt x="25461" y="1400"/>
                </a:lnTo>
                <a:close/>
              </a:path>
              <a:path fill="darkenLess" w="26861" h="21600">
                <a:moveTo>
                  <a:pt x="268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61" y="20200"/>
                </a:lnTo>
                <a:close/>
              </a:path>
              <a:path fill="lighten" w="268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61" h="21600">
                <a:moveTo>
                  <a:pt x="6424" y="3794"/>
                </a:moveTo>
                <a:lnTo>
                  <a:pt x="20437" y="10800"/>
                </a:lnTo>
                <a:lnTo>
                  <a:pt x="6424" y="17806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3"/>
          <p:cNvSpPr/>
          <p:nvPr/>
        </p:nvSpPr>
        <p:spPr>
          <a:xfrm>
            <a:off x="971640" y="2924280"/>
            <a:ext cx="561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e1"/>
                </a:solidFill>
                <a:latin typeface="Arial"/>
              </a:rPr>
              <a:t>Давно замечено, что таланты являю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e1"/>
                </a:solidFill>
                <a:latin typeface="Arial"/>
              </a:rPr>
              <a:t>Всюду и всегда, где и когда существуют Условия, благоприятные для их реал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e1"/>
                </a:solidFill>
                <a:latin typeface="Arial"/>
              </a:rPr>
              <a:t>                                                                                                </a:t>
            </a:r>
            <a:r>
              <a:rPr b="1" lang="ru-RU" sz="1800" spc="-1" strike="noStrike">
                <a:solidFill>
                  <a:srgbClr val="ffffe1"/>
                </a:solidFill>
                <a:latin typeface="Arial"/>
              </a:rPr>
              <a:t>Г.В. Плеха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59"/>
          <p:cNvSpPr/>
          <p:nvPr/>
        </p:nvSpPr>
        <p:spPr>
          <a:xfrm>
            <a:off x="324000" y="223920"/>
            <a:ext cx="8496000" cy="94716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e1"/>
                </a:solidFill>
                <a:latin typeface="Arial"/>
              </a:rPr>
              <a:t>Зональный этап Всероссийской олимпиады школь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8"/>
          <p:cNvSpPr/>
          <p:nvPr/>
        </p:nvSpPr>
        <p:spPr>
          <a:xfrm>
            <a:off x="790560" y="1557360"/>
            <a:ext cx="8353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e1"/>
                </a:solidFill>
                <a:latin typeface="Arial"/>
              </a:rPr>
              <a:t>Победителями и призерами стал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52</a:t>
            </a:r>
            <a:r>
              <a:rPr b="1" lang="ru-RU" sz="3600" spc="-1" strike="noStrike">
                <a:solidFill>
                  <a:srgbClr val="ffffe1"/>
                </a:solidFill>
                <a:latin typeface="Arial"/>
              </a:rPr>
              <a:t> учащихся из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13</a:t>
            </a:r>
            <a:r>
              <a:rPr b="1" lang="ru-RU" sz="3600" spc="-1" strike="noStrike">
                <a:solidFill>
                  <a:srgbClr val="ffffe1"/>
                </a:solidFill>
                <a:latin typeface="Arial"/>
              </a:rPr>
              <a:t> О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ru-RU" sz="3600" spc="-1" strike="noStrike">
                <a:solidFill>
                  <a:srgbClr val="ffffe1"/>
                </a:solidFill>
                <a:latin typeface="Arial"/>
              </a:rPr>
              <a:t> педагога подготовили 3-х и более призер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ru-RU" sz="3600" spc="-1" strike="noStrike">
                <a:solidFill>
                  <a:srgbClr val="ffffe1"/>
                </a:solidFill>
                <a:latin typeface="Arial"/>
              </a:rPr>
              <a:t> учащихся стали призерами 2-х и более предмето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4"/>
          <p:cNvSpPr/>
          <p:nvPr/>
        </p:nvSpPr>
        <p:spPr>
          <a:xfrm>
            <a:off x="719280" y="393840"/>
            <a:ext cx="7705440" cy="1557000"/>
          </a:xfrm>
          <a:prstGeom prst="rect">
            <a:avLst/>
          </a:prstGeom>
          <a:gradFill rotWithShape="0">
            <a:gsLst>
              <a:gs pos="0">
                <a:srgbClr val="b9b9a3"/>
              </a:gs>
              <a:gs pos="50000">
                <a:srgbClr val="ffffe1"/>
              </a:gs>
              <a:gs pos="100000">
                <a:srgbClr val="b9b9a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йтинг ОУ, принимавших участие в зональном этапе всероссийской олимпиады школьников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Object 10"/>
          <p:cNvGraphicFramePr/>
          <p:nvPr/>
        </p:nvGraphicFramePr>
        <p:xfrm>
          <a:off x="0" y="1981080"/>
          <a:ext cx="9144000" cy="519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81080"/>
                    <a:ext cx="9144000" cy="519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0"/>
          <p:cNvSpPr/>
          <p:nvPr/>
        </p:nvSpPr>
        <p:spPr>
          <a:xfrm>
            <a:off x="755640" y="0"/>
            <a:ext cx="878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авнительный анализ количества ПОБЕДИТЕЛ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ональных предметных олимпиад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 последние 5 лет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Object 11"/>
          <p:cNvGraphicFramePr/>
          <p:nvPr/>
        </p:nvGraphicFramePr>
        <p:xfrm>
          <a:off x="-252360" y="1371600"/>
          <a:ext cx="939636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52360" y="1371600"/>
                    <a:ext cx="939636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Краевой этап Всероссийской олимпиады школьников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282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бедителями и призерами стал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Кравченко Елизавета,  СОШ № 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Яковлева Екатерина,  СОШ № 9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оскалева Инна,  СОШ № 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обедителей и призеров краев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этапа подготовил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Голуб Ирина Викто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равченко Татьяна Владими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AutoShape 4"/>
          <p:cNvSpPr/>
          <p:nvPr/>
        </p:nvSpPr>
        <p:spPr>
          <a:xfrm>
            <a:off x="325440" y="41400"/>
            <a:ext cx="8564400" cy="1623960"/>
          </a:xfrm>
          <a:prstGeom prst="roundRect">
            <a:avLst>
              <a:gd name="adj" fmla="val 16667"/>
            </a:avLst>
          </a:prstGeom>
          <a:solidFill>
            <a:srgbClr val="f8f8f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формация о количестве победителей и призеров трех этапов предметных олимпиад в 2007 – 2008 учебном году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5"/>
          <p:cNvSpPr/>
          <p:nvPr/>
        </p:nvSpPr>
        <p:spPr>
          <a:xfrm>
            <a:off x="246240" y="2043000"/>
            <a:ext cx="8650080" cy="1721880"/>
          </a:xfrm>
          <a:prstGeom prst="roundRect">
            <a:avLst>
              <a:gd name="adj" fmla="val 16667"/>
            </a:avLst>
          </a:prstGeom>
          <a:solidFill>
            <a:srgbClr val="f8f8f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этом году в «копилке» Павловского района  21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зовых мес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65-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место, 69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I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есто, 78 -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II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мест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20"/>
          <p:cNvGrpSpPr/>
          <p:nvPr/>
        </p:nvGrpSpPr>
        <p:grpSpPr>
          <a:xfrm>
            <a:off x="1547640" y="3500280"/>
            <a:ext cx="5832720" cy="3384720"/>
            <a:chOff x="1547640" y="3500280"/>
            <a:chExt cx="5832720" cy="3384720"/>
          </a:xfrm>
        </p:grpSpPr>
        <p:sp>
          <p:nvSpPr>
            <p:cNvPr id="151" name="AutoShape 17"/>
            <p:cNvSpPr/>
            <p:nvPr/>
          </p:nvSpPr>
          <p:spPr>
            <a:xfrm>
              <a:off x="1547640" y="5597640"/>
              <a:ext cx="2232360" cy="1263600"/>
            </a:xfrm>
            <a:prstGeom prst="cube">
              <a:avLst>
                <a:gd name="adj" fmla="val 250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18"/>
            <p:cNvSpPr/>
            <p:nvPr/>
          </p:nvSpPr>
          <p:spPr>
            <a:xfrm>
              <a:off x="3456000" y="4703760"/>
              <a:ext cx="2232000" cy="2158920"/>
            </a:xfrm>
            <a:prstGeom prst="cube">
              <a:avLst>
                <a:gd name="adj" fmla="val 250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AutoShape 19"/>
            <p:cNvSpPr/>
            <p:nvPr/>
          </p:nvSpPr>
          <p:spPr>
            <a:xfrm>
              <a:off x="5148360" y="5991120"/>
              <a:ext cx="2232000" cy="893880"/>
            </a:xfrm>
            <a:prstGeom prst="cube">
              <a:avLst>
                <a:gd name="adj" fmla="val 25000"/>
              </a:avLst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Group 14"/>
            <p:cNvGrpSpPr/>
            <p:nvPr/>
          </p:nvGrpSpPr>
          <p:grpSpPr>
            <a:xfrm>
              <a:off x="3708360" y="3500280"/>
              <a:ext cx="1584360" cy="1584360"/>
              <a:chOff x="3708360" y="3500280"/>
              <a:chExt cx="1584360" cy="1584360"/>
            </a:xfrm>
          </p:grpSpPr>
          <p:sp>
            <p:nvSpPr>
              <p:cNvPr id="155" name="Oval 6"/>
              <p:cNvSpPr/>
              <p:nvPr/>
            </p:nvSpPr>
            <p:spPr>
              <a:xfrm>
                <a:off x="3708360" y="3500280"/>
                <a:ext cx="1584360" cy="1584360"/>
              </a:xfrm>
              <a:prstGeom prst="ellipse">
                <a:avLst/>
              </a:prstGeom>
              <a:gradFill rotWithShape="0">
                <a:gsLst>
                  <a:gs pos="0">
                    <a:srgbClr val="ffdc79"/>
                  </a:gs>
                  <a:gs pos="100000">
                    <a:srgbClr val="b9a058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WordArt 11"/>
              <p:cNvSpPr txBox="1"/>
              <p:nvPr/>
            </p:nvSpPr>
            <p:spPr>
              <a:xfrm>
                <a:off x="4062240" y="3909600"/>
                <a:ext cx="874800" cy="765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fbe4ae"/>
                        </a:gs>
                        <a:gs pos="100000">
                          <a:srgbClr val="fbe4ae"/>
                        </a:gs>
                      </a:gsLst>
                      <a:lin ang="5400000"/>
                    </a:gradFill>
                    <a:effectLst>
                      <a:outerShdw dist="17819" dir="2700000" blurRad="0" rotWithShape="0">
                        <a:srgbClr val="663300"/>
                      </a:outerShdw>
                    </a:effectLst>
                    <a:latin typeface="Verdana"/>
                  </a:rPr>
                  <a:t>65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be4ae"/>
                      </a:gs>
                      <a:gs pos="100000">
                        <a:srgbClr val="fbe4ae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663300"/>
                    </a:outerShdw>
                  </a:effectLst>
                  <a:latin typeface="Verdana"/>
                  <a:ea typeface="Verdana"/>
                </a:endParaRPr>
              </a:p>
            </p:txBody>
          </p:sp>
        </p:grpSp>
        <p:grpSp>
          <p:nvGrpSpPr>
            <p:cNvPr id="157" name="Group 15"/>
            <p:cNvGrpSpPr/>
            <p:nvPr/>
          </p:nvGrpSpPr>
          <p:grpSpPr>
            <a:xfrm>
              <a:off x="1763640" y="4219560"/>
              <a:ext cx="1584360" cy="1584360"/>
              <a:chOff x="1763640" y="4219560"/>
              <a:chExt cx="1584360" cy="1584360"/>
            </a:xfrm>
          </p:grpSpPr>
          <p:sp>
            <p:nvSpPr>
              <p:cNvPr id="158" name="Oval 7"/>
              <p:cNvSpPr/>
              <p:nvPr/>
            </p:nvSpPr>
            <p:spPr>
              <a:xfrm>
                <a:off x="1763640" y="4219560"/>
                <a:ext cx="1584360" cy="1584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WordArt 12"/>
              <p:cNvSpPr txBox="1"/>
              <p:nvPr/>
            </p:nvSpPr>
            <p:spPr>
              <a:xfrm>
                <a:off x="2201040" y="4628880"/>
                <a:ext cx="709560" cy="765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e6e6e6"/>
                        </a:gs>
                        <a:gs pos="100000">
                          <a:srgbClr val="e6e6e6"/>
                        </a:gs>
                      </a:gsLst>
                      <a:lin ang="5400000"/>
                    </a:gradFill>
                    <a:effectLst>
                      <a:outerShdw dist="17819" dir="2700000" blurRad="0" rotWithShape="0">
                        <a:srgbClr val="663300"/>
                      </a:outerShdw>
                    </a:effectLst>
                    <a:latin typeface="Verdana"/>
                  </a:rPr>
                  <a:t>69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e6e6e6"/>
                      </a:gs>
                      <a:gs pos="100000">
                        <a:srgbClr val="e6e6e6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663300"/>
                    </a:outerShdw>
                  </a:effectLst>
                  <a:latin typeface="Verdana"/>
                  <a:ea typeface="Verdana"/>
                </a:endParaRPr>
              </a:p>
            </p:txBody>
          </p:sp>
        </p:grpSp>
        <p:grpSp>
          <p:nvGrpSpPr>
            <p:cNvPr id="160" name="Group 16"/>
            <p:cNvGrpSpPr/>
            <p:nvPr/>
          </p:nvGrpSpPr>
          <p:grpSpPr>
            <a:xfrm>
              <a:off x="5508720" y="4508640"/>
              <a:ext cx="1584360" cy="1584360"/>
              <a:chOff x="5508720" y="4508640"/>
              <a:chExt cx="1584360" cy="1584360"/>
            </a:xfrm>
          </p:grpSpPr>
          <p:sp>
            <p:nvSpPr>
              <p:cNvPr id="161" name="Oval 8"/>
              <p:cNvSpPr/>
              <p:nvPr/>
            </p:nvSpPr>
            <p:spPr>
              <a:xfrm>
                <a:off x="5508720" y="4508640"/>
                <a:ext cx="1584360" cy="1584360"/>
              </a:xfrm>
              <a:prstGeom prst="ellipse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WordArt 13"/>
              <p:cNvSpPr txBox="1"/>
              <p:nvPr/>
            </p:nvSpPr>
            <p:spPr>
              <a:xfrm>
                <a:off x="5945760" y="4917960"/>
                <a:ext cx="709920" cy="765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825600"/>
                        </a:gs>
                        <a:gs pos="100000">
                          <a:srgbClr val="825600"/>
                        </a:gs>
                      </a:gsLst>
                      <a:lin ang="5400000"/>
                    </a:gradFill>
                    <a:effectLst>
                      <a:outerShdw dist="17819" dir="2700000" blurRad="0" rotWithShape="0">
                        <a:srgbClr val="663300"/>
                      </a:outerShdw>
                    </a:effectLst>
                    <a:latin typeface="Verdana"/>
                  </a:rPr>
                  <a:t>78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25600"/>
                      </a:gs>
                      <a:gs pos="100000">
                        <a:srgbClr val="825600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663300"/>
                    </a:outerShdw>
                  </a:effectLst>
                  <a:latin typeface="Verdana"/>
                  <a:ea typeface="Verdana"/>
                </a:endParaRPr>
              </a:p>
            </p:txBody>
          </p:sp>
        </p:grpSp>
      </p:grpSp>
      <p:sp>
        <p:nvSpPr>
          <p:cNvPr id="163" name="AutoShape 21">
            <a:hlinkClick r:id="" action="ppaction://hlinkshowjump?jump=nextslide"/>
          </p:cNvPr>
          <p:cNvSpPr/>
          <p:nvPr/>
        </p:nvSpPr>
        <p:spPr>
          <a:xfrm>
            <a:off x="8029440" y="6453360"/>
            <a:ext cx="503280" cy="404640"/>
          </a:xfrm>
          <a:custGeom>
            <a:avLst/>
            <a:gdLst>
              <a:gd name="textAreaLeft" fmla="*/ 25920 w 503280"/>
              <a:gd name="textAreaRight" fmla="*/ 477360 w 5032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861" h="21600">
                <a:moveTo>
                  <a:pt x="0" y="0"/>
                </a:moveTo>
                <a:lnTo>
                  <a:pt x="26861" y="0"/>
                </a:lnTo>
                <a:lnTo>
                  <a:pt x="26861" y="21600"/>
                </a:lnTo>
                <a:lnTo>
                  <a:pt x="0" y="21600"/>
                </a:lnTo>
                <a:close/>
              </a:path>
              <a:path fill="lightenLess" w="26861" h="21600">
                <a:moveTo>
                  <a:pt x="0" y="0"/>
                </a:moveTo>
                <a:lnTo>
                  <a:pt x="26861" y="0"/>
                </a:lnTo>
                <a:lnTo>
                  <a:pt x="25461" y="1400"/>
                </a:lnTo>
                <a:lnTo>
                  <a:pt x="1400" y="1400"/>
                </a:lnTo>
                <a:close/>
              </a:path>
              <a:path fill="darken" w="26861" h="21600">
                <a:moveTo>
                  <a:pt x="26861" y="0"/>
                </a:moveTo>
                <a:lnTo>
                  <a:pt x="26861" y="21600"/>
                </a:lnTo>
                <a:lnTo>
                  <a:pt x="25461" y="20200"/>
                </a:lnTo>
                <a:lnTo>
                  <a:pt x="25461" y="1400"/>
                </a:lnTo>
                <a:close/>
              </a:path>
              <a:path fill="darkenLess" w="26861" h="21600">
                <a:moveTo>
                  <a:pt x="268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61" y="20200"/>
                </a:lnTo>
                <a:close/>
              </a:path>
              <a:path fill="lighten" w="268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61" h="21600">
                <a:moveTo>
                  <a:pt x="6424" y="3794"/>
                </a:moveTo>
                <a:lnTo>
                  <a:pt x="20437" y="10800"/>
                </a:lnTo>
                <a:lnTo>
                  <a:pt x="6424" y="17806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22">
            <a:hlinkClick r:id="" action="ppaction://hlinkshowjump?jump=previousslide"/>
          </p:cNvPr>
          <p:cNvSpPr/>
          <p:nvPr/>
        </p:nvSpPr>
        <p:spPr>
          <a:xfrm>
            <a:off x="7308720" y="6453360"/>
            <a:ext cx="505080" cy="40464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957" h="21600">
                <a:moveTo>
                  <a:pt x="0" y="0"/>
                </a:moveTo>
                <a:lnTo>
                  <a:pt x="26957" y="0"/>
                </a:lnTo>
                <a:lnTo>
                  <a:pt x="26957" y="21600"/>
                </a:lnTo>
                <a:lnTo>
                  <a:pt x="0" y="21600"/>
                </a:lnTo>
                <a:close/>
              </a:path>
              <a:path fill="lightenLess" w="26957" h="21600">
                <a:moveTo>
                  <a:pt x="0" y="0"/>
                </a:moveTo>
                <a:lnTo>
                  <a:pt x="26957" y="0"/>
                </a:lnTo>
                <a:lnTo>
                  <a:pt x="25557" y="1400"/>
                </a:lnTo>
                <a:lnTo>
                  <a:pt x="1400" y="1400"/>
                </a:lnTo>
                <a:close/>
              </a:path>
              <a:path fill="darken" w="26957" h="21600">
                <a:moveTo>
                  <a:pt x="26957" y="0"/>
                </a:moveTo>
                <a:lnTo>
                  <a:pt x="26957" y="21600"/>
                </a:lnTo>
                <a:lnTo>
                  <a:pt x="25557" y="20200"/>
                </a:lnTo>
                <a:lnTo>
                  <a:pt x="25557" y="1400"/>
                </a:lnTo>
                <a:close/>
              </a:path>
              <a:path fill="darkenLess" w="26957" h="21600">
                <a:moveTo>
                  <a:pt x="269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7" y="20200"/>
                </a:lnTo>
                <a:close/>
              </a:path>
              <a:path fill="lighten" w="269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7" h="21600">
                <a:moveTo>
                  <a:pt x="6472" y="10800"/>
                </a:moveTo>
                <a:lnTo>
                  <a:pt x="20485" y="3794"/>
                </a:lnTo>
                <a:lnTo>
                  <a:pt x="20485" y="17806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3"/>
          <p:cNvSpPr/>
          <p:nvPr/>
        </p:nvSpPr>
        <p:spPr>
          <a:xfrm>
            <a:off x="8604360" y="6477120"/>
            <a:ext cx="539640" cy="33732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755640" y="404640"/>
          <a:ext cx="7632720" cy="5761080"/>
        </p:xfrm>
        <a:graphic>
          <a:graphicData uri="http://schemas.openxmlformats.org/drawingml/2006/table">
            <a:tbl>
              <a:tblPr/>
              <a:tblGrid>
                <a:gridCol w="2097000"/>
                <a:gridCol w="2349720"/>
                <a:gridCol w="3186000"/>
              </a:tblGrid>
              <a:tr h="3735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личество предме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участников трех этапов Олимпиады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ffa3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айонный этап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9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ональный этап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раевой этап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7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00">
                        <a:alpha val="15000"/>
                      </a:srgbClr>
                    </a:solidFill>
                  </a:tcPr>
                </a:tc>
              </a:tr>
              <a:tr h="202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1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3ffa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0" y="115920"/>
            <a:ext cx="9144000" cy="551160"/>
          </a:xfrm>
          <a:prstGeom prst="rect">
            <a:avLst/>
          </a:prstGeom>
          <a:solidFill>
            <a:srgbClr val="ffffe1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РЕЙТИНГ ПРЕДМ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Диаграмма 3"/>
          <p:cNvGraphicFramePr/>
          <p:nvPr/>
        </p:nvGraphicFramePr>
        <p:xfrm>
          <a:off x="357120" y="765000"/>
          <a:ext cx="8358120" cy="590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Диаграмма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20" y="765000"/>
                    <a:ext cx="8358120" cy="59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0000"/>
                </a:solidFill>
                <a:latin typeface="Times New Roman"/>
              </a:rPr>
              <a:t>Районный этап Всероссийской олимпиады школьников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AutoShape 4"/>
          <p:cNvSpPr/>
          <p:nvPr/>
        </p:nvSpPr>
        <p:spPr>
          <a:xfrm>
            <a:off x="2050920" y="4292640"/>
            <a:ext cx="7093080" cy="2303280"/>
          </a:xfrm>
          <a:prstGeom prst="verticalScroll">
            <a:avLst>
              <a:gd name="adj" fmla="val 12500"/>
            </a:avLst>
          </a:prstGeom>
          <a:solidFill>
            <a:srgbClr val="339966">
              <a:alpha val="33000"/>
            </a:srgbClr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7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педагог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готовили 3-х и более призе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учащих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али призерами 3-х и более предмет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971640" y="1557360"/>
            <a:ext cx="5790960" cy="2303280"/>
          </a:xfrm>
          <a:prstGeom prst="verticalScroll">
            <a:avLst>
              <a:gd name="adj" fmla="val 12500"/>
            </a:avLst>
          </a:prstGeom>
          <a:solidFill>
            <a:srgbClr val="339966">
              <a:alpha val="33000"/>
            </a:srgbClr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Победители и призер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169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учащих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из </a:t>
            </a: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15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О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5"/>
          <p:cNvSpPr/>
          <p:nvPr/>
        </p:nvSpPr>
        <p:spPr>
          <a:xfrm>
            <a:off x="179280" y="3294000"/>
            <a:ext cx="4464000" cy="317304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 ним относя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ОУ СОШ № 9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ОУ СОШ № 2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ОУ СОШ № 12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ОУ СОШ № 1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ОУ СОШ №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5005440" y="260280"/>
            <a:ext cx="3887640" cy="1008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этом году все ОУ приняли участие в районном этапе предметных олимпиа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9"/>
          <p:cNvSpPr/>
          <p:nvPr/>
        </p:nvSpPr>
        <p:spPr>
          <a:xfrm flipV="1">
            <a:off x="1260360" y="2997360"/>
            <a:ext cx="2232000" cy="2887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4788000" y="2637000"/>
            <a:ext cx="4356000" cy="100872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став «Золотой пятерки» в течение последних лет менялся незначитель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219240" y="262080"/>
            <a:ext cx="4381200" cy="2918880"/>
          </a:xfrm>
          <a:prstGeom prst="rect">
            <a:avLst/>
          </a:prstGeom>
          <a:solidFill>
            <a:srgbClr val="ffffe1"/>
          </a:solidFill>
          <a:ln w="76320">
            <a:solidFill>
              <a:srgbClr val="00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ивысшие командные показатели, складывающиеся из общего числа призеров и победителей олимпиады, в 2008-  2009  году, как и в прошлые годы, стабильно показываю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5 шко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d1c39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7"/>
          <p:cNvSpPr/>
          <p:nvPr/>
        </p:nvSpPr>
        <p:spPr>
          <a:xfrm>
            <a:off x="468360" y="18900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ейтинг ОУ, принимавших участие в районном этапе всероссийской олимпиады школьников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Object 6"/>
          <p:cNvGraphicFramePr/>
          <p:nvPr/>
        </p:nvGraphicFramePr>
        <p:xfrm>
          <a:off x="-684360" y="836640"/>
          <a:ext cx="10801440" cy="576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84360" y="836640"/>
                    <a:ext cx="10801440" cy="57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d1c39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80"/>
          <p:cNvSpPr/>
          <p:nvPr/>
        </p:nvSpPr>
        <p:spPr>
          <a:xfrm>
            <a:off x="179280" y="260280"/>
            <a:ext cx="8496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авнительный анализ результативности районных предметных олимпиад за 2007-2008 и 2008 – 2009 учебный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Object 1"/>
          <p:cNvGraphicFramePr/>
          <p:nvPr/>
        </p:nvGraphicFramePr>
        <p:xfrm>
          <a:off x="-468360" y="1484280"/>
          <a:ext cx="10080720" cy="597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68360" y="1484280"/>
                    <a:ext cx="10080720" cy="59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d1c39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3"/>
          <p:cNvSpPr/>
          <p:nvPr/>
        </p:nvSpPr>
        <p:spPr>
          <a:xfrm>
            <a:off x="259200" y="333360"/>
            <a:ext cx="865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авнительный анализ количества УЧАСТНИКОВ районных предмет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лимпиад за 2008 – 2009 учебный год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Object 2"/>
          <p:cNvGraphicFramePr/>
          <p:nvPr/>
        </p:nvGraphicFramePr>
        <p:xfrm>
          <a:off x="-360360" y="1025640"/>
          <a:ext cx="9504360" cy="58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60360" y="1025640"/>
                    <a:ext cx="9504360" cy="58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6"/>
          <p:cNvSpPr/>
          <p:nvPr/>
        </p:nvSpPr>
        <p:spPr>
          <a:xfrm>
            <a:off x="6084720" y="1690560"/>
            <a:ext cx="25909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8604360" y="6477120"/>
            <a:ext cx="539640" cy="33732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540720" y="189000"/>
            <a:ext cx="812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e1"/>
                </a:solidFill>
                <a:latin typeface="Arial"/>
              </a:rPr>
              <a:t>Сравнительный анализ количества ПОБЕДИТЕЛ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e1"/>
                </a:solidFill>
                <a:latin typeface="Arial"/>
              </a:rPr>
              <a:t>районных предметных олимпиад </a:t>
            </a:r>
            <a:br>
              <a:rPr sz="2400"/>
            </a:br>
            <a:r>
              <a:rPr b="1" lang="ru-RU" sz="2400" spc="-1" strike="noStrike">
                <a:solidFill>
                  <a:srgbClr val="ffffe1"/>
                </a:solidFill>
                <a:latin typeface="Arial"/>
              </a:rPr>
              <a:t>за 2007-2008 и 2008 – 2009 учебный год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Object 3"/>
          <p:cNvGraphicFramePr/>
          <p:nvPr/>
        </p:nvGraphicFramePr>
        <p:xfrm>
          <a:off x="0" y="1484280"/>
          <a:ext cx="9144000" cy="537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84280"/>
                    <a:ext cx="9144000" cy="537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2T08:49:27Z</dcterms:created>
  <dc:creator>Алексей</dc:creator>
  <dc:description/>
  <dc:language>en-US</dc:language>
  <cp:lastModifiedBy>Татьяна</cp:lastModifiedBy>
  <dcterms:modified xsi:type="dcterms:W3CDTF">2009-04-08T11:16:08Z</dcterms:modified>
  <cp:revision>147</cp:revision>
  <dc:subject/>
  <dc:title>Слайд 1</dc:title>
</cp:coreProperties>
</file>