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86D-DBA8-4903-BBB5-67469B3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646-4343-42FF-A123-50DDFE86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EC0-B94C-4FC2-9754-F4E3AA2E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1A4-D381-4232-B259-3A8BA5D7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A7B-2312-4576-9E74-240FEB9D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9BF-078D-4D94-9BA7-5ABE8B2C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7D1-3C1D-447B-9578-F321F7A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8BC-11FD-4C0B-8CD6-8B4EEA5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AB5-AF0E-47BF-BD66-B4ED6A7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0D3-789B-4C8E-9B6C-4EDB1EE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F97-823F-42E3-B357-72F2C28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8A5-7471-4772-9A8C-DA6CEB2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F42-7361-4BB5-A1FE-036FDECC4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solidFill>
            <a:srgbClr val="ffff7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Русский язы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276280"/>
            <a:ext cx="8496000" cy="41050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 тренировочно – диагнос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 по текстам 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11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2008 – 2009 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Недобитко С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Штих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Штомпель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угаева Е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3240" y="1916280"/>
          <a:ext cx="91249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916280"/>
                    <a:ext cx="91249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Малеева Н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Фрулёва Е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Ермак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- Стукало О.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Есипенко Т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Гамаль А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Лугинец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я: Гаврилец В.В., Крыжановская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Приходько С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Ивашкин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0" y="1989000"/>
          <a:ext cx="912816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2816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Хагуш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Щеголихина Л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Бойко О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Коспелов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Герасименко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Погребная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Рейтинг ш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0920" y="1125360"/>
          <a:ext cx="8435880" cy="4964400"/>
        </p:xfrm>
        <a:graphic>
          <a:graphicData uri="http://schemas.openxmlformats.org/drawingml/2006/table">
            <a:tbl>
              <a:tblPr/>
              <a:tblGrid>
                <a:gridCol w="1873080"/>
                <a:gridCol w="3384720"/>
                <a:gridCol w="317808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а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а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№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, 7, 13, 15,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5,  7,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2,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9,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(с)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Ш 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(с)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Тотьмянин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Новицкая В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 В(с)О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Рунцова И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– Рунцова И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0" y="1773360"/>
          <a:ext cx="914400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5050"/>
                </a:solidFill>
                <a:latin typeface="Arial"/>
              </a:rPr>
              <a:t>Желаем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5050"/>
                </a:solidFill>
                <a:latin typeface="Arial"/>
              </a:rPr>
              <a:t>успехов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Распреде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оц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№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№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56400"/>
          </a:xfrm>
          <a:prstGeom prst="rect">
            <a:avLst/>
          </a:prstGeom>
          <a:solidFill>
            <a:srgbClr val="ffff7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обучающихс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470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ий уровень обуч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без «двоек») --                      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7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ий показатель качества знаний --                               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3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Радуль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Стадник А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-212760" y="1773360"/>
          <a:ext cx="93567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2760" y="1773360"/>
                    <a:ext cx="93567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Кадыров Р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я: Подсекина И.И.,Литенок Н.В., Метченко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Ручкин Н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я: Лохман О.В., Шарова О.К., Черныш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0" y="198900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Бойко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я: Багмет Е.Л., Левченко Е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191628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Ш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У СОШ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школы – Остапенко С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Кожура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0" y="2276640"/>
          <a:ext cx="9144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44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7:21:21Z</dcterms:created>
  <dc:creator>Толик</dc:creator>
  <dc:description/>
  <dc:language>en-US</dc:language>
  <cp:lastModifiedBy>Татьяна</cp:lastModifiedBy>
  <dcterms:modified xsi:type="dcterms:W3CDTF">2009-04-08T11:16:44Z</dcterms:modified>
  <cp:revision>19</cp:revision>
  <dc:subject/>
  <dc:title>Русский язык</dc:title>
</cp:coreProperties>
</file>