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2408-4100-4F8C-B0F3-18A34704C8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0887-5864-4807-BBA5-C27234CA82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1560" y="68256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66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4F7-E752-42C0-895D-5859A166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06D-85AE-4F54-8BB7-949D0D16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C4E7-57DC-4EC9-B29A-AB4CF7E9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AC9-0DEA-4278-8CEE-43BDBE26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5D8-FE3C-45B2-84B8-8C7FDEB9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CBE-0742-4722-A9ED-C8C05A98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067-42D9-4F9B-9D9F-F2EB2DBE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9D4-D5DF-4D02-8CBF-655EB639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E5A-2717-4CC4-9F80-6A4A2A01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6EB-EDED-463F-B362-C9EC3601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DB2-7F25-45C1-BEDB-23FB749D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3B8-DF09-4306-B596-486289B7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2ABB-6B58-4181-8062-EB303DF9E5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Логотип Края и РФ с картой"/>
          <p:cNvPicPr/>
          <p:nvPr/>
        </p:nvPicPr>
        <p:blipFill>
          <a:blip r:embed="rId1"/>
          <a:stretch/>
        </p:blipFill>
        <p:spPr>
          <a:xfrm>
            <a:off x="2556000" y="3236760"/>
            <a:ext cx="4321080" cy="2459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395280" y="1278360"/>
            <a:ext cx="8424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сударственная (итоговая) аттест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учающихся в 2009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0920" y="189000"/>
            <a:ext cx="8642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униципальное образование Павловс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Логотип Края и РФ с картой"/>
          <p:cNvPicPr/>
          <p:nvPr/>
        </p:nvPicPr>
        <p:blipFill>
          <a:blip r:embed="rId2"/>
          <a:stretch/>
        </p:blipFill>
        <p:spPr>
          <a:xfrm>
            <a:off x="2556000" y="3236760"/>
            <a:ext cx="4321080" cy="24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свидетельство выставляются результаты ЕГЭ по тем общеобразовательным предметам, по которым выпускник набрал количество баллов не ниже минимально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94" name="Rectangle 8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9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Rectangle 10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сли выпускник получил на государственной (итоговой) аттестации неудовлетворительный результат по одному из обязательных предметов, он допускается повторно к государственной (итоговой) аттестации по данному предмету в текущем году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99" name="Rectangle 8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9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Rectangle 10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ускникам, получившим на государственной (итоговой) аттестации неудовлетворительные результаты по русскому языку и математике, выдаётся справка об обучении в образовательном учреждении. Указанным выпускникам предоставляется право пройти государственную (итоговую) аттестацию не ранее чем через год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7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104" name="Rectangle 8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9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Rectangle 10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0" y="1143000"/>
          <a:ext cx="88390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8390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Group 7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111" name="Rectangle 8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9" descr="Логотип Края и РФ с картой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Rectangle 10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116" name="Rectangle 8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9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Rectangle 10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04920" y="1295280"/>
            <a:ext cx="853416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кры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сультационные пун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базе МОУ СОШ № 2, 3,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ля подготовки учащихся к ЕГ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21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4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9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Text Box 5"/>
          <p:cNvSpPr/>
          <p:nvPr/>
        </p:nvSpPr>
        <p:spPr>
          <a:xfrm>
            <a:off x="760320" y="152280"/>
            <a:ext cx="7812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рмативные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57200" y="762120"/>
            <a:ext cx="8381880" cy="9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57120" indent="-357120">
              <a:spcBef>
                <a:spcPts val="2112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- Закон РФ «Об образовании» от 10.07.92 № 3266-1 (с изменениями и дополнениям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2112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- Положение о государственной (итоговой) аттестации выпускников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IX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 и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XI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(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XII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) классов общеобразовательных учреждений РФ (в редакции приказов Минобразования России от 16.03.01 №1022, от 25.06.02 №2398 от 21.01.03 №135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2112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-Положение о порядке подготовки и проведения государственной (итоговой) аттестации выпускников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IX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 и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 XI (XII)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 классов общеобразовательных учреждений Краснодарского края (приказ ДОН от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30.03.2000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№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450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2112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862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862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862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862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п.1.1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ГИА выпускников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X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классов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зависимо от формы получения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сле освоения общеобразовательных программ основного общего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является обязательной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128" name="Rectangle 5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6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7"/>
          <p:cNvSpPr/>
          <p:nvPr/>
        </p:nvSpPr>
        <p:spPr>
          <a:xfrm>
            <a:off x="1303920" y="22860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.1.3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Допускаются обучающиеся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Освоившие образовательные 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основного общего образовани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Имеющие положительные годовые    отме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по всем предметам учебного план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Имеющие годовую отметку «2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по одному предме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с обязательной сдачей экзаме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по этому предме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134" name="Rectangle 5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6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Rectangle 7"/>
          <p:cNvSpPr/>
          <p:nvPr/>
        </p:nvSpPr>
        <p:spPr>
          <a:xfrm>
            <a:off x="1219320" y="152280"/>
            <a:ext cx="765468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.2.1.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ыпускники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классов сдают не менее 4 экзамен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700" spc="-1" strike="noStrike" u="sng">
                <a:solidFill>
                  <a:srgbClr val="333399"/>
                </a:solidFill>
                <a:uFillTx/>
                <a:latin typeface="Arial"/>
              </a:rPr>
              <a:t>Письменны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99"/>
                </a:solidFill>
                <a:latin typeface="Arial"/>
              </a:rPr>
              <a:t>-русский язык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99"/>
                </a:solidFill>
                <a:latin typeface="Arial"/>
              </a:rPr>
              <a:t>-алгеб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333399"/>
                </a:solidFill>
                <a:uFillTx/>
                <a:latin typeface="Arial"/>
              </a:rPr>
              <a:t>Все</a:t>
            </a:r>
            <a:r>
              <a:rPr b="1" lang="ru-RU" sz="2700" spc="-1" strike="noStrike">
                <a:solidFill>
                  <a:srgbClr val="333399"/>
                </a:solidFill>
                <a:latin typeface="Arial"/>
              </a:rPr>
              <a:t> с участием ТЭ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99"/>
                </a:solidFill>
                <a:latin typeface="Arial"/>
              </a:rPr>
              <a:t>(приказ ДОН от 27.01.09 №1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99"/>
                </a:solidFill>
                <a:latin typeface="Arial"/>
              </a:rPr>
              <a:t>Кроме вечерних шко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333399"/>
                </a:solidFill>
                <a:uFillTx/>
                <a:latin typeface="Arial"/>
              </a:rPr>
              <a:t>2 экзамена по выбор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333399"/>
                </a:solidFill>
                <a:latin typeface="Arial"/>
              </a:rPr>
              <a:t>-из  предметов 9-ого клас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99"/>
                </a:solidFill>
                <a:latin typeface="Arial"/>
              </a:rPr>
              <a:t>Профильные класс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333399"/>
                </a:solidFill>
                <a:latin typeface="Arial"/>
              </a:rPr>
              <a:t>-предметы соответствующие профил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333399"/>
                </a:solidFill>
                <a:latin typeface="Arial"/>
              </a:rPr>
              <a:t>(приказ ДОН от 27.01.09 №1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7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141" name="Rectangle 8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9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Rectangle 10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п.2.12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 Допускаются к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овторной ГИА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выпускники, получившие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е более двух «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заявление родит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решение педсо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приказ О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147" name="Rectangle 5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6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Rectangle 7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проводится в форме ЕГЭ,  а также в форме государственного выпускного экзаме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7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54" name="Rectangle 8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9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Rectangle 10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-5294160"/>
            <a:ext cx="7632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п.3.8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Не допущенные к ГИ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 прошедшие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 усмотрению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оставляются на повторное обуч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продолжают получать образование в иных фор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6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Rectangle 7"/>
          <p:cNvSpPr/>
          <p:nvPr/>
        </p:nvSpPr>
        <p:spPr>
          <a:xfrm>
            <a:off x="1439640" y="204840"/>
            <a:ext cx="712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 государственной (итоговой) аттес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57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4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9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Text Box 5"/>
          <p:cNvSpPr/>
          <p:nvPr/>
        </p:nvSpPr>
        <p:spPr>
          <a:xfrm>
            <a:off x="1143000" y="228600"/>
            <a:ext cx="7812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п.4.4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Аттестат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 основном общем образовании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особог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образ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одовые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экзаменационные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тоговые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п.2.2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Аттестация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обстановке исключающей влияние негативных факторов на состояние здоровья выпускников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, обучаю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 на д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в санаториях длительного леч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в лечебно-профилактических учреждениях более 4 месяце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дети-инвал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е ранее 1 м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64" name="Rectangle 5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6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9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Rectangle 7"/>
          <p:cNvSpPr/>
          <p:nvPr/>
        </p:nvSpPr>
        <p:spPr>
          <a:xfrm>
            <a:off x="1303920" y="22860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начинается не ранее 25 мая текущего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59" name="Rectangle 8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9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Rectangle 10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 проведении государственной (итоговой) аттестации в форме ЕГЭ используется стобалльная система оцен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64" name="Rectangle 8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9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Rectangle 10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(и) А выпускников ОУ по русскому языку и математике является обязательно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69" name="Rectangle 8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9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Rectangle 10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 государственной (итоговой) аттестации допускаются выпускники образовательных учреждений, имеющие годовые отметки по всем общеобразовательным предметам учебного плана за 10, 11 (12) классы не ниже удовлетворительн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7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74" name="Rectangle 8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9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Rectangle 10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 государственной (итоговой) аттестации признаются удовлетворительными в случае, если выпускник по обязательным общеобразовательным предметам (русский язык и математика) при сдаче ЕГЭ набрал количество баллов не ниже минимальног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7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79" name="Rectangle 8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9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Rectangle 10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довлетворительны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 государственной (итоговой) аттестации по русскому языку и математике являются основанием выдачи выпускникам документа государственного образца – аттестата о среднем (полном) общем образовани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7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84" name="Rectangle 8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9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Rectangle 10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тоговые отметки определяются как среднее арифметическое годовых отметок выпускника за 10, 11 (12) классы и  выставляются в аттестат целыми числами в соответствии с правилами математического округлен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89" name="Rectangle 8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9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Rectangle 10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</dc:creator>
  <dc:description/>
  <dc:language>en-US</dc:language>
  <cp:lastModifiedBy>Татьяна</cp:lastModifiedBy>
  <dcterms:modified xsi:type="dcterms:W3CDTF">2009-04-08T11:17:18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